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7C2-5A23-4AE0-9C62-A851F9A9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7733-7B36-4307-8460-F1B43CA5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418-8955-4AD7-A72A-3622E052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570E-C6F9-4E29-B423-AA583CA2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8A0D-EB2D-47BA-B534-EB81E7BF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35FE-F026-46FC-8EDA-246461AB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784-B63E-4077-B333-3A7CB97A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4DCC-D52B-4CB4-958C-DD235D90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EE8-B06E-47E4-9332-2B5128C9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8E2-54D5-4F60-9509-BB95AB1B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1164-C3C2-4F12-822C-CEA226B2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3CC9-4370-40D4-929A-03E7EE2E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3DC1-073C-48E4-A332-533DBEA22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5344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mpresarios y profesionales que sean sujetos pasivos del IVA pueden deducir de las cuotas devengadas a sus clientes, las cuotas soportadas en sus adquisicione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roceso de liquidación del IVA tiene dos componentes: el IVA devengado en las ventas y el IVA soportado en las compras que sea deducibl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declaración – liquidación del impuesto puede tener tres resulta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3500280"/>
            <a:ext cx="17269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ngado en v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43280" y="3573360"/>
            <a:ext cx="208908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portado dedu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435640" y="3573360"/>
            <a:ext cx="220680" cy="755640"/>
            <a:chOff x="5435640" y="3573360"/>
            <a:chExt cx="220680" cy="755640"/>
          </a:xfrm>
        </p:grpSpPr>
        <p:sp>
          <p:nvSpPr>
            <p:cNvPr id="45" name=""/>
            <p:cNvSpPr/>
            <p:nvPr/>
          </p:nvSpPr>
          <p:spPr>
            <a:xfrm>
              <a:off x="5435640" y="357336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35640" y="388620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35640" y="432900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5148360" y="328464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24360" y="3357720"/>
            <a:ext cx="313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ingre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ev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mpensar en periodos  posterio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3933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869000"/>
            <a:ext cx="8820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OTAS DEDUC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sujetos pasivos del IVA sólo podrán deducir las cuotas soportadas en operaciones que estén directa y exclusivamente relacionadas con su actividad empresarial o profesional; es decir, debe existir una relación directa entre la actividad que ejerce el sujeto pasivo y la utilización del bien o servicio cuyas cuotas se pretenden deduc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404640"/>
            <a:ext cx="856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c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mpras realizadas a empresarios de otros países no comunitarios. El gravamen se liquida en la aduana. Incluida Ceuta, Canarias y Melil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egas Intracomunitaria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Ventas  de bienes a empresarios de otros Estados miembros de la Unión Europea. Son operaciones exe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rtac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entas realizadas a empresarios de otros países no comunitarios. Son operaciones ex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22:47:32Z</dcterms:created>
  <dc:creator>Ana Maria</dc:creator>
  <dc:description/>
  <dc:language>en-US</dc:language>
  <cp:lastModifiedBy>Ana Maria</cp:lastModifiedBy>
  <dcterms:modified xsi:type="dcterms:W3CDTF">2010-05-13T19:54:04Z</dcterms:modified>
  <cp:revision>3</cp:revision>
  <dc:subject/>
  <dc:title>Los empresarios y profesionales que sean sujetos pasivos del IVA pueden deducir de las cuotas devengadas a sus clientes, las cuotas soportadas en sus adquisiciones.  El proceso de liquidación del IVA tiene dos componentes: el IVA devengado en las ventas y el IVA soportado en las compras que sea deducible.  La declaración – liquidación del impuesto puede tener tres resultado:</dc:title>
</cp:coreProperties>
</file>